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439-2420-48C1-9A4A-C32E49F8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927-0171-40D5-9DE7-E7AF38A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1F9-5EC5-47C8-A21A-A2513CB3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147-9674-418A-A854-58BEFBCF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20E-F7BC-4672-A4E0-28DD2A15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9056-1827-4400-91DE-ED773862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9E27-68C3-403F-9025-EF45885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57B-D7CA-4ADA-80ED-92537F0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5B43-F8F8-4531-B754-BA83DDD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3C44-1395-43FB-8DE9-6AB8D103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AC8-E339-4A29-8A1F-5B7DFE7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D2A-930B-4A6C-927F-23C2C79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216C-9A06-42EF-9068-1B2C27E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A94-F1BB-417C-BFC7-2D6F7AE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479-826F-44C7-8266-949857D7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A8AC-8347-4045-BF6F-EC12F1D2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0653-48CF-4712-A532-40E5E300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25B-B9DF-4EA4-84BA-34FBA99E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138-18C2-46FF-9A51-CEDA14D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ACF-89BD-471F-BDF8-7ED54A6F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5C0-60EC-41DD-997E-01D6BB9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1F2-CC17-4E08-8A46-A588621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9DD-4595-42A9-8BD7-E8319B1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8A4-1112-4F53-8E46-F2B76EF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586B-0D65-4819-8B03-BE896EA3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1BC-858B-4DDE-A48B-F88D72D3117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Cell Theory – a time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te 1500’s: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first lenses used in Euro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used to determine cloth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ality (weave and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cis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combos of lenses gave bette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rly 1600’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euwenhoek us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 to study na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4  A prokaryotic cell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320" y="577800"/>
            <a:ext cx="89154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Times New Roman"/>
              </a:rPr>
              <a:t>Basic Cell Struc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Cell membra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thin, flexible barrier around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Nucle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large, centralized structure that contains genetic material and controls cellular activ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Rockwell Extra Bold"/>
              </a:rPr>
              <a:t>Cytoplas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material inside membrane (but not inside the nucleus) that supports the internal cell shape and organel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asic cell parts: cell membrane and  cytoplas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howcard Gothic"/>
              </a:rPr>
              <a:t>Cell membra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provides barrier between internal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external environment of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emi-permeab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some th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go in, some cannot;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things can exit, som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ver ca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made up of phospholipid bilayer with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ins embedded that allow fo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ed passage of larg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lec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jor job of cell membrane is to maintain the cell’s environment – establish homeosta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luid Mosaic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ll membrane and embedded proteins are not locked into position – they flow against one another as the cytoplasm and the external liquid environment dictate (so, is flui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are MANY different components of the cell membrane – it is a mosaic of many pa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8.6  The detailed structure of an animal cell’s plasma membrane, in cross sec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st organel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losed by nuclear envelope or membrane, which is a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oubl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mbrane – each of which is a lipid bilayer!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uclear membrane has pores in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ains inactive DNA – chroma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gets ready to divide, chromatin condenses into chromoso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s protein synthesis by synthesizing mRNA and sending to ribosomes in the cytoplas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ire region between the nucleus and the cell membr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mifluid substance that fills this area is called 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CYTOSO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and this is what the organelles are suspended 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nd in </a:t>
            </a:r>
            <a:r>
              <a:rPr b="0" lang="en-US" sz="3200" spc="-1" strike="noStrike">
                <a:solidFill>
                  <a:srgbClr val="ff33cc"/>
                </a:solidFill>
                <a:latin typeface="Showcard Gothic"/>
              </a:rPr>
              <a:t>plant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another barrier in ADDITION to the cell membran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s support to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polysaccharide called cellul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very porous and allows molecules to pass through, but is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OT SELECTIVELY PERME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Showcard Gothic"/>
              </a:rPr>
              <a:t>Contro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Nucleu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Showcard Gothic"/>
              </a:rPr>
              <a:t>Assembly, Transport, and Storag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Endoplasmic reticulum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Ribosom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Golgi apparatu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Vacuole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*Lysosom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howcard Gothic"/>
              </a:rPr>
              <a:t>Energy transforma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*Chloroplasts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(plant only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*mitochondria 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 Unicode MS"/>
              </a:rPr>
              <a:t>(plant and anim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0c0c0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09480" y="5335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</a:rPr>
              <a:t>Early 1600’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7920" y="1828800"/>
            <a:ext cx="403848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Leeuwenhoek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first to view pond water organism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First to see living microscopic org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Made careful sketch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2" descr="leeuwenhoek2"/>
          <p:cNvPicPr/>
          <p:nvPr/>
        </p:nvPicPr>
        <p:blipFill>
          <a:blip r:embed="rId1"/>
          <a:stretch/>
        </p:blipFill>
        <p:spPr>
          <a:xfrm>
            <a:off x="419040" y="1828800"/>
            <a:ext cx="358956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arly 1600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Endoplasmic reticulum –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ighway system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VE – accounts for more than half the total membrane system in eukaryotic ce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 means “little net within the cytoplas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ooth and rough e.r. are actually connected, not distinct, separate se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b is to transport materials quickly from one place to another in c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ooth e.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s in synthesis of lipids, metabolism of carbs, detoxification of drugs and pois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Lipids – oils, phospholipids, stero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sex hormones and adrenal hormon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Liver cells – glycogen; gets converted to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ucose phosphate which cannot leav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ll, so e.r. makes enzyme that conver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to gluc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Detox – liver; adds hydroxyl groups to drugs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s them soluble and able to b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ushed out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ough e.r.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s secretory prote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ex. Insulin made by pancreatic cell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are glycoproteins (proteins covalently bound to carb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ugh e.r. is also a membrane factory – grows by adding proteins and phospholipids; parts can be taken from here and added to other membrane systems using the vesicles for trans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Ribosom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protein factorie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es of protein 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made of rRNA and prote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lls with high rates of protein synthesis have MANY ribosomes (human pancreas cell has MILLIONS of ribosom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“free” ribosomes in cytosol that make proteins for the cell that they are INSIDE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bosomes that are attached to endoplasmic reticulum (bound) are making proteins for packaging and export OUTSIDE OF CEL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Golgi apparatu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Gift wrapper/UPS system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ishes, sorts, ships cell produc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olgi will modify products as needed – gives more variety by removing some monomers and substituting othe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Vacuol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Bank Vaults” or “trash can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es of storage in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*good things stored – water, mineral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od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*bad things stored – broken down ce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ts, was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Lysosome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suicide bag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mbrane-bounded sac of hydrolytic enzy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fferent lysosomes break down each of the major classes of macromolecules – proteins, polysaccharides, fats, nucleic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k best at pH of 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d in autophagy – recycle the cell’s own organic material for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457200" y="25236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Arial"/>
              </a:rPr>
              <a:t>Robert Hooke ( 16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7" descr="hooke"/>
          <p:cNvPicPr/>
          <p:nvPr/>
        </p:nvPicPr>
        <p:blipFill>
          <a:blip r:embed="rId1"/>
          <a:stretch/>
        </p:blipFill>
        <p:spPr>
          <a:xfrm>
            <a:off x="685800" y="1577880"/>
            <a:ext cx="249552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648320" y="1577880"/>
            <a:ext cx="403848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Used light microscope to look at thin slices of plant tissues -- cor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Looked empty, like monk’s cha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Arial"/>
              </a:rPr>
              <a:t>Called tiny chambers “cells”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3" descr="hooke 2"/>
          <p:cNvPicPr/>
          <p:nvPr/>
        </p:nvPicPr>
        <p:blipFill>
          <a:blip r:embed="rId2"/>
          <a:stretch/>
        </p:blipFill>
        <p:spPr>
          <a:xfrm>
            <a:off x="457200" y="3863880"/>
            <a:ext cx="35053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1"/>
          <p:cNvGrpSpPr/>
          <p:nvPr/>
        </p:nvGrpSpPr>
        <p:grpSpPr>
          <a:xfrm>
            <a:off x="0" y="6103800"/>
            <a:ext cx="18288000" cy="360"/>
            <a:chOff x="0" y="6103800"/>
            <a:chExt cx="18288000" cy="360"/>
          </a:xfrm>
        </p:grpSpPr>
        <p:sp>
          <p:nvSpPr>
            <p:cNvPr id="111" name="Rectangle 13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9144000" y="6103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itochondria and Chloroplas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powerhouses”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tochondria – carry on cellular respiration – sites of energy production in cell (glucose broken down to produce AT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oplasts – carry on photosynthe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es where sunlight, CO2 and water ar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rted into gluc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7  The mitochondrion, site of cellular respira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76280" y="380880"/>
            <a:ext cx="81914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igure 7.18  The chloroplast, site of photosynthesis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rcRect l="0" t="0" r="1710" b="0"/>
          <a:stretch/>
        </p:blipFill>
        <p:spPr>
          <a:xfrm>
            <a:off x="190440" y="1219320"/>
            <a:ext cx="8763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ytoskelet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ay in mud makes brick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twork of fibers extending into cytoplasm of c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s structural support, and aids in cell motility and cell reg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up of microtubules (thickest), microtubules (thinnest), and intermediate filamen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ilia and Flagella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hairs and tails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lia are short projections from cell body – hair-l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agella are much longer – whip-lik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vement may not be for entire organism; may be part of a larger unit – ex. Cilia lining windpipe propel foreign substances o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elles do not work alone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ll is a dynamic interaction of ALL of its parts – literally, the basic unit of life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0c0c0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  <a:ea typeface="Arial"/>
              </a:rPr>
              <a:t>Matthias Schleiden 18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1692360"/>
            <a:ext cx="4038480" cy="4525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German Botanist (plan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All plants looked at were made of cells, so conclude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“</a:t>
            </a: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All plants are made of cells.”</a:t>
            </a:r>
            <a:r>
              <a:rPr b="0" lang="en-US" sz="4400" spc="-1" strike="noStrike">
                <a:solidFill>
                  <a:srgbClr val="ffffcc"/>
                </a:solidFill>
                <a:latin typeface="Rockwell Extra Bold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2" descr="Matthias Schleiden"/>
          <p:cNvPicPr/>
          <p:nvPr/>
        </p:nvPicPr>
        <p:blipFill>
          <a:blip r:embed="rId1"/>
          <a:stretch/>
        </p:blipFill>
        <p:spPr>
          <a:xfrm>
            <a:off x="4419720" y="169236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380880" y="404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011"/>
                </a:solidFill>
                <a:latin typeface="Times New Roman"/>
                <a:ea typeface="Arial"/>
              </a:rPr>
              <a:t>Theodore Schwann -- 18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80880" y="1600200"/>
            <a:ext cx="40388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60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2b"/>
                </a:solidFill>
                <a:latin typeface="Times New Roman"/>
                <a:ea typeface="Arial"/>
              </a:rPr>
              <a:t>German scientist who studied animals -- zoologis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Times New Roman"/>
                <a:ea typeface="Arial"/>
              </a:rPr>
              <a:t>Saw that all animals he studied were cellular so conclude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0011"/>
                </a:solidFill>
                <a:latin typeface="Rockwell Extra Bold"/>
                <a:ea typeface="Arial"/>
              </a:rPr>
              <a:t>“</a:t>
            </a:r>
            <a:r>
              <a:rPr b="0" lang="en-US" sz="2800" spc="-1" strike="noStrike">
                <a:solidFill>
                  <a:srgbClr val="220011"/>
                </a:solidFill>
                <a:latin typeface="Rockwell Extra Bold"/>
                <a:ea typeface="Arial"/>
              </a:rPr>
              <a:t>All animals are made of cells.”</a:t>
            </a:r>
            <a:r>
              <a:rPr b="0" lang="en-US" sz="2800" spc="-1" strike="noStrike">
                <a:solidFill>
                  <a:srgbClr val="ffffcc"/>
                </a:solidFill>
                <a:latin typeface="Rockwell Extra Bold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2" descr="schwann"/>
          <p:cNvPicPr/>
          <p:nvPr/>
        </p:nvPicPr>
        <p:blipFill>
          <a:blip r:embed="rId2"/>
          <a:stretch/>
        </p:blipFill>
        <p:spPr>
          <a:xfrm>
            <a:off x="4495680" y="1501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57200" y="2905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  <a:ea typeface="Arial"/>
              </a:rPr>
              <a:t>Rudolf Virchow -- 185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1311120"/>
            <a:ext cx="4038480" cy="5257800"/>
          </a:xfrm>
          <a:prstGeom prst="rect">
            <a:avLst/>
          </a:prstGeom>
          <a:solidFill>
            <a:srgbClr val="56002b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German physician who studied cell reprod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ockwell Extra Bold"/>
                <a:ea typeface="Arial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Rockwell Extra Bold"/>
                <a:ea typeface="Arial"/>
              </a:rPr>
              <a:t>Where a cell exists, there must have been a preexisting cell….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2" descr="virchow02"/>
          <p:cNvPicPr/>
          <p:nvPr/>
        </p:nvPicPr>
        <p:blipFill>
          <a:blip r:embed="rId2"/>
          <a:stretch/>
        </p:blipFill>
        <p:spPr>
          <a:xfrm>
            <a:off x="4968720" y="161604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Theory was form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a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xplanation of natural phenomenon based on many observations and investigations over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ies are sometimes abandoned based on new evid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The Cell Theor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All living things are composed of cell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Cells are the basic units of structure and function in living thing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Arial"/>
              </a:rPr>
              <a:t>New cells are produced from existing cell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karyotes vs. Eukary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Showcard Gothic"/>
              </a:rPr>
              <a:t>Prokaryotes: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NUCLEU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Small and Simple – few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el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Have cell membrane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cytoplas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. Bacter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Showcard Gothic"/>
              </a:rPr>
              <a:t>Eukaryotes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Contain nucle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Contains organelles tha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 specialized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Uni-or multicellula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2:16:45Z</dcterms:created>
  <dc:creator>Pamela B. Perry</dc:creator>
  <dc:description/>
  <dc:language>en-US</dc:language>
  <cp:lastModifiedBy>Ryan Edel</cp:lastModifiedBy>
  <dcterms:modified xsi:type="dcterms:W3CDTF">2011-09-26T13:26:37Z</dcterms:modified>
  <cp:revision>9</cp:revision>
  <dc:subject/>
  <dc:title>The Cell Theory – a timeline</dc:title>
</cp:coreProperties>
</file>